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8A0-0877-4C41-8E46-3742047D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1B4-3F37-4DCC-9A3D-E65E90CB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B6F-4433-4796-925E-972916BA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C54-88A0-4507-9520-54BF3C51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1DD1-641F-4B18-B7D1-8273ADB0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6077-0DFB-4E18-B0BA-F7E69A3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5650-735E-4963-84A8-BF16E8E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347B-FD19-4051-92A6-3E69E9F6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CD5A-ECBB-40A8-A878-CD5B5D8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CE0C-4BFC-45AA-A7F0-92FD8258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CD63-296A-47FA-B2EF-42791FE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1D4-0E0D-418A-9F35-7FB59F44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624-A4B5-41C2-B347-F51D3974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9BB1-E9EC-468A-96B3-5797D57A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B6AB-144E-454F-B091-376F473B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F1C8-9E87-4183-A63B-06F16ED5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482-751F-4AE2-932B-3B5BFAF2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27CD-AC1D-4DCD-9364-0775F152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378B-7A9F-4475-9E9E-F3DE0F3F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EE56-B521-4F62-8CE1-A628419B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865B-E5D0-4FE1-972F-6896514C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68C8-C890-46CC-8A65-B8C72674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407-0B9C-4AA1-BB07-0F21657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05AE-4D8B-49B1-9DFF-3EF513E8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3044-85E0-497F-B9D8-A2889CC9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27040-D8A5-49B9-9AE8-CFDD8A2A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B72B-D46B-40BF-913F-481F2F8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0CB0-3414-4A4F-86DD-484237C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BE7A-54C8-48D6-B905-BB018A41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5252-DF93-4C7A-A41D-DBA4D05C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5724-C1DA-4CDB-8E9C-DF0C3503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1675-EB8C-458F-A028-68363728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54212-FF4D-49B6-A72D-8D734042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DC3-DD17-4FAE-BFD6-C903438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FF7D-50FE-427D-82AE-90567FFA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8D5D-0774-4DCD-BE5A-32747EA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A687E-764D-4DB4-A963-3BC47655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7E5A-2F3F-400F-A14C-E3023E6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4D7EA-329C-4C19-96DC-1A2E1A51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0570-1CA1-4A4E-A7DD-BB43B50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A682C-215E-47EC-8BFA-8AB7ED4E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40E3-68C8-4F4B-8AE1-20672CC6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1FA15-BA27-49EC-96BD-F6933E38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08D-27E9-4FF4-BF01-D41F5D9C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386-4AC1-481B-984F-55CD44F7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527-A674-47AA-BCCA-87BEB16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5C2-4543-4D9B-99CC-10BC8D7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3BD-EA48-4FEE-A0AD-8411B7EF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B0C-1E34-4A20-893A-10AEB2ADAA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86B0-88B4-46E3-89ED-2BE9031C048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F663-BB82-4B75-B0D2-751E27677DB3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8B86-A9B8-404A-B016-BD902A564B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14560" y="765000"/>
            <a:ext cx="62658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6.3 </a:t>
            </a:r>
            <a:r>
              <a:rPr b="0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实数</a:t>
            </a:r>
            <a:r>
              <a:rPr b="0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(1)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547640" y="498600"/>
                <a:ext cx="9734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79280" y="642960"/>
                <a:ext cx="8654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27280" y="696960"/>
                <a:ext cx="10810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140360" y="785880"/>
                <a:ext cx="792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64000" y="569880"/>
                <a:ext cx="10414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948360" y="642960"/>
                <a:ext cx="1081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0" y="1557360"/>
                <a:ext cx="1298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924360" y="1916280"/>
                <a:ext cx="1655640" cy="103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156360" y="1989000"/>
                <a:ext cx="17272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619280" y="1700280"/>
                <a:ext cx="1004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916360" y="2060640"/>
                <a:ext cx="6728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0" y="3249720"/>
                <a:ext cx="41054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37737773</m:t>
                    </m:r>
                    <m:r>
                      <m:t xml:space="preserve">⋅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34920" y="393372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相邻两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之间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个数逐次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479736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-36360" y="-270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18"/>
          <p:cNvSpPr/>
          <p:nvPr/>
        </p:nvSpPr>
        <p:spPr>
          <a:xfrm>
            <a:off x="826920" y="1967040"/>
            <a:ext cx="727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47"/>
          <p:cNvGrpSpPr/>
          <p:nvPr/>
        </p:nvGrpSpPr>
        <p:grpSpPr>
          <a:xfrm>
            <a:off x="1690560" y="1822320"/>
            <a:ext cx="5544720" cy="144360"/>
            <a:chOff x="1690560" y="1822320"/>
            <a:chExt cx="5544720" cy="144360"/>
          </a:xfrm>
        </p:grpSpPr>
        <p:grpSp>
          <p:nvGrpSpPr>
            <p:cNvPr id="359" name="Group 39"/>
            <p:cNvGrpSpPr/>
            <p:nvPr/>
          </p:nvGrpSpPr>
          <p:grpSpPr>
            <a:xfrm>
              <a:off x="1690560" y="1822320"/>
              <a:ext cx="2376720" cy="144360"/>
              <a:chOff x="1690560" y="1822320"/>
              <a:chExt cx="2376720" cy="144360"/>
            </a:xfrm>
          </p:grpSpPr>
          <p:grpSp>
            <p:nvGrpSpPr>
              <p:cNvPr id="360" name="Group 35"/>
              <p:cNvGrpSpPr/>
              <p:nvPr/>
            </p:nvGrpSpPr>
            <p:grpSpPr>
              <a:xfrm>
                <a:off x="1690560" y="1822320"/>
                <a:ext cx="792360" cy="144360"/>
                <a:chOff x="1690560" y="1822320"/>
                <a:chExt cx="792360" cy="144360"/>
              </a:xfrm>
            </p:grpSpPr>
            <p:sp>
              <p:nvSpPr>
                <p:cNvPr id="361" name="Line 20"/>
                <p:cNvSpPr/>
                <p:nvPr/>
              </p:nvSpPr>
              <p:spPr>
                <a:xfrm>
                  <a:off x="169056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22"/>
                <p:cNvSpPr/>
                <p:nvPr/>
              </p:nvSpPr>
              <p:spPr>
                <a:xfrm>
                  <a:off x="248292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36"/>
              <p:cNvGrpSpPr/>
              <p:nvPr/>
            </p:nvGrpSpPr>
            <p:grpSpPr>
              <a:xfrm>
                <a:off x="3274920" y="1822320"/>
                <a:ext cx="792360" cy="144360"/>
                <a:chOff x="3274920" y="1822320"/>
                <a:chExt cx="792360" cy="144360"/>
              </a:xfrm>
            </p:grpSpPr>
            <p:sp>
              <p:nvSpPr>
                <p:cNvPr id="364" name="Line 37"/>
                <p:cNvSpPr/>
                <p:nvPr/>
              </p:nvSpPr>
              <p:spPr>
                <a:xfrm>
                  <a:off x="327492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38"/>
                <p:cNvSpPr/>
                <p:nvPr/>
              </p:nvSpPr>
              <p:spPr>
                <a:xfrm>
                  <a:off x="406728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" name="Group 40"/>
            <p:cNvGrpSpPr/>
            <p:nvPr/>
          </p:nvGrpSpPr>
          <p:grpSpPr>
            <a:xfrm>
              <a:off x="4859280" y="1822320"/>
              <a:ext cx="2376000" cy="144360"/>
              <a:chOff x="4859280" y="1822320"/>
              <a:chExt cx="2376000" cy="144360"/>
            </a:xfrm>
          </p:grpSpPr>
          <p:grpSp>
            <p:nvGrpSpPr>
              <p:cNvPr id="367" name="Group 41"/>
              <p:cNvGrpSpPr/>
              <p:nvPr/>
            </p:nvGrpSpPr>
            <p:grpSpPr>
              <a:xfrm>
                <a:off x="4859280" y="1822320"/>
                <a:ext cx="792000" cy="144360"/>
                <a:chOff x="4859280" y="1822320"/>
                <a:chExt cx="792000" cy="144360"/>
              </a:xfrm>
            </p:grpSpPr>
            <p:sp>
              <p:nvSpPr>
                <p:cNvPr id="368" name="Line 42"/>
                <p:cNvSpPr/>
                <p:nvPr/>
              </p:nvSpPr>
              <p:spPr>
                <a:xfrm>
                  <a:off x="485928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43"/>
                <p:cNvSpPr/>
                <p:nvPr/>
              </p:nvSpPr>
              <p:spPr>
                <a:xfrm>
                  <a:off x="565128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44"/>
              <p:cNvGrpSpPr/>
              <p:nvPr/>
            </p:nvGrpSpPr>
            <p:grpSpPr>
              <a:xfrm>
                <a:off x="6443280" y="1822320"/>
                <a:ext cx="792000" cy="144360"/>
                <a:chOff x="6443280" y="1822320"/>
                <a:chExt cx="792000" cy="144360"/>
              </a:xfrm>
            </p:grpSpPr>
            <p:sp>
              <p:nvSpPr>
                <p:cNvPr id="371" name="Line 45"/>
                <p:cNvSpPr/>
                <p:nvPr/>
              </p:nvSpPr>
              <p:spPr>
                <a:xfrm>
                  <a:off x="644328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46"/>
                <p:cNvSpPr/>
                <p:nvPr/>
              </p:nvSpPr>
              <p:spPr>
                <a:xfrm>
                  <a:off x="7235280" y="182232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3" name="Text Box 48"/>
          <p:cNvSpPr/>
          <p:nvPr/>
        </p:nvSpPr>
        <p:spPr>
          <a:xfrm>
            <a:off x="1266480" y="2077920"/>
            <a:ext cx="61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   -2   -1    0     1    2    3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Oval 53"/>
          <p:cNvSpPr/>
          <p:nvPr/>
        </p:nvSpPr>
        <p:spPr>
          <a:xfrm>
            <a:off x="2112840" y="18795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Oval 54"/>
          <p:cNvSpPr/>
          <p:nvPr/>
        </p:nvSpPr>
        <p:spPr>
          <a:xfrm>
            <a:off x="3981600" y="186228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Oval 55"/>
          <p:cNvSpPr/>
          <p:nvPr/>
        </p:nvSpPr>
        <p:spPr>
          <a:xfrm>
            <a:off x="6823080" y="18813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56"/>
              <p:cNvSpPr txBox="1"/>
              <p:nvPr/>
            </p:nvSpPr>
            <p:spPr>
              <a:xfrm>
                <a:off x="3851280" y="1195560"/>
                <a:ext cx="4190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58"/>
              <p:cNvSpPr txBox="1"/>
              <p:nvPr/>
            </p:nvSpPr>
            <p:spPr>
              <a:xfrm>
                <a:off x="3848040" y="1193760"/>
                <a:ext cx="419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9"/>
              <p:cNvSpPr txBox="1"/>
              <p:nvPr/>
            </p:nvSpPr>
            <p:spPr>
              <a:xfrm>
                <a:off x="1619280" y="476280"/>
                <a:ext cx="113184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0"/>
              <p:cNvSpPr txBox="1"/>
              <p:nvPr/>
            </p:nvSpPr>
            <p:spPr>
              <a:xfrm>
                <a:off x="6516720" y="979560"/>
                <a:ext cx="754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61"/>
          <p:cNvSpPr/>
          <p:nvPr/>
        </p:nvSpPr>
        <p:spPr>
          <a:xfrm>
            <a:off x="1954440" y="31464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都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8"/>
          <p:cNvSpPr/>
          <p:nvPr/>
        </p:nvSpPr>
        <p:spPr>
          <a:xfrm>
            <a:off x="2010960" y="260280"/>
            <a:ext cx="532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单位长度的圆从原点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轴向右滚动一周，圆上的一点由原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到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坐标是多少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Oval 37"/>
          <p:cNvSpPr/>
          <p:nvPr/>
        </p:nvSpPr>
        <p:spPr>
          <a:xfrm>
            <a:off x="1457280" y="44370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Oval 38"/>
          <p:cNvSpPr/>
          <p:nvPr/>
        </p:nvSpPr>
        <p:spPr>
          <a:xfrm>
            <a:off x="6424560" y="44370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Oval 39"/>
          <p:cNvSpPr/>
          <p:nvPr/>
        </p:nvSpPr>
        <p:spPr>
          <a:xfrm>
            <a:off x="2954160" y="27795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1042920" y="4540320"/>
            <a:ext cx="727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Group 22"/>
          <p:cNvGrpSpPr/>
          <p:nvPr/>
        </p:nvGrpSpPr>
        <p:grpSpPr>
          <a:xfrm>
            <a:off x="1547640" y="4395960"/>
            <a:ext cx="2376720" cy="144360"/>
            <a:chOff x="1547640" y="4395960"/>
            <a:chExt cx="2376720" cy="144360"/>
          </a:xfrm>
        </p:grpSpPr>
        <p:grpSp>
          <p:nvGrpSpPr>
            <p:cNvPr id="388" name="Group 23"/>
            <p:cNvGrpSpPr/>
            <p:nvPr/>
          </p:nvGrpSpPr>
          <p:grpSpPr>
            <a:xfrm>
              <a:off x="1547640" y="4395960"/>
              <a:ext cx="792360" cy="144360"/>
              <a:chOff x="1547640" y="4395960"/>
              <a:chExt cx="792360" cy="144360"/>
            </a:xfrm>
          </p:grpSpPr>
          <p:sp>
            <p:nvSpPr>
              <p:cNvPr id="389" name="Line 24"/>
              <p:cNvSpPr/>
              <p:nvPr/>
            </p:nvSpPr>
            <p:spPr>
              <a:xfrm>
                <a:off x="154764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Line 25"/>
              <p:cNvSpPr/>
              <p:nvPr/>
            </p:nvSpPr>
            <p:spPr>
              <a:xfrm>
                <a:off x="234000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26"/>
            <p:cNvGrpSpPr/>
            <p:nvPr/>
          </p:nvGrpSpPr>
          <p:grpSpPr>
            <a:xfrm>
              <a:off x="3132000" y="4395960"/>
              <a:ext cx="792360" cy="144360"/>
              <a:chOff x="3132000" y="4395960"/>
              <a:chExt cx="792360" cy="144360"/>
            </a:xfrm>
          </p:grpSpPr>
          <p:sp>
            <p:nvSpPr>
              <p:cNvPr id="392" name="Line 27"/>
              <p:cNvSpPr/>
              <p:nvPr/>
            </p:nvSpPr>
            <p:spPr>
              <a:xfrm>
                <a:off x="313200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Line 28"/>
              <p:cNvSpPr/>
              <p:nvPr/>
            </p:nvSpPr>
            <p:spPr>
              <a:xfrm>
                <a:off x="392436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29"/>
          <p:cNvGrpSpPr/>
          <p:nvPr/>
        </p:nvGrpSpPr>
        <p:grpSpPr>
          <a:xfrm>
            <a:off x="4716360" y="4395960"/>
            <a:ext cx="2376720" cy="144360"/>
            <a:chOff x="4716360" y="4395960"/>
            <a:chExt cx="2376720" cy="144360"/>
          </a:xfrm>
        </p:grpSpPr>
        <p:grpSp>
          <p:nvGrpSpPr>
            <p:cNvPr id="395" name="Group 30"/>
            <p:cNvGrpSpPr/>
            <p:nvPr/>
          </p:nvGrpSpPr>
          <p:grpSpPr>
            <a:xfrm>
              <a:off x="4716360" y="4395960"/>
              <a:ext cx="792360" cy="144360"/>
              <a:chOff x="4716360" y="4395960"/>
              <a:chExt cx="792360" cy="144360"/>
            </a:xfrm>
          </p:grpSpPr>
          <p:sp>
            <p:nvSpPr>
              <p:cNvPr id="396" name="Line 31"/>
              <p:cNvSpPr/>
              <p:nvPr/>
            </p:nvSpPr>
            <p:spPr>
              <a:xfrm>
                <a:off x="471636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Line 32"/>
              <p:cNvSpPr/>
              <p:nvPr/>
            </p:nvSpPr>
            <p:spPr>
              <a:xfrm>
                <a:off x="550872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33"/>
            <p:cNvGrpSpPr/>
            <p:nvPr/>
          </p:nvGrpSpPr>
          <p:grpSpPr>
            <a:xfrm>
              <a:off x="6300720" y="4395960"/>
              <a:ext cx="792360" cy="144360"/>
              <a:chOff x="6300720" y="4395960"/>
              <a:chExt cx="792360" cy="144360"/>
            </a:xfrm>
          </p:grpSpPr>
          <p:sp>
            <p:nvSpPr>
              <p:cNvPr id="399" name="Line 34"/>
              <p:cNvSpPr/>
              <p:nvPr/>
            </p:nvSpPr>
            <p:spPr>
              <a:xfrm>
                <a:off x="630072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Line 35"/>
              <p:cNvSpPr/>
              <p:nvPr/>
            </p:nvSpPr>
            <p:spPr>
              <a:xfrm>
                <a:off x="7093080" y="43959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Text Box 36"/>
          <p:cNvSpPr/>
          <p:nvPr/>
        </p:nvSpPr>
        <p:spPr>
          <a:xfrm>
            <a:off x="1329840" y="450864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40"/>
          <p:cNvSpPr/>
          <p:nvPr/>
        </p:nvSpPr>
        <p:spPr>
          <a:xfrm flipV="1">
            <a:off x="7813800" y="437940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42"/>
          <p:cNvSpPr/>
          <p:nvPr/>
        </p:nvSpPr>
        <p:spPr>
          <a:xfrm>
            <a:off x="646200" y="2708280"/>
            <a:ext cx="180000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Oval 43"/>
          <p:cNvSpPr/>
          <p:nvPr/>
        </p:nvSpPr>
        <p:spPr>
          <a:xfrm>
            <a:off x="5613480" y="2708280"/>
            <a:ext cx="180000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2627280" y="2741760"/>
            <a:ext cx="1800360" cy="180000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3492360" y="2741760"/>
            <a:ext cx="1800360" cy="180000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Oval 48"/>
          <p:cNvSpPr/>
          <p:nvPr/>
        </p:nvSpPr>
        <p:spPr>
          <a:xfrm>
            <a:off x="4925880" y="291312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50"/>
          <p:cNvSpPr/>
          <p:nvPr/>
        </p:nvSpPr>
        <p:spPr>
          <a:xfrm>
            <a:off x="6627960" y="4508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31"/>
          <p:cNvSpPr/>
          <p:nvPr/>
        </p:nvSpPr>
        <p:spPr>
          <a:xfrm>
            <a:off x="1924560" y="522936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无理数</a:t>
            </a:r>
            <a:r>
              <a:rPr b="1" lang="el-GR" sz="4000" spc="-1" strike="noStrike">
                <a:solidFill>
                  <a:srgbClr val="ff3300"/>
                </a:solidFill>
                <a:latin typeface="楷体_GB2312"/>
              </a:rPr>
              <a:t>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Oval 37"/>
          <p:cNvSpPr/>
          <p:nvPr/>
        </p:nvSpPr>
        <p:spPr>
          <a:xfrm>
            <a:off x="2195640" y="1241280"/>
            <a:ext cx="4505040" cy="4419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40"/>
          <p:cNvSpPr/>
          <p:nvPr/>
        </p:nvSpPr>
        <p:spPr>
          <a:xfrm>
            <a:off x="4498920" y="1989000"/>
            <a:ext cx="1584360" cy="1584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108000" y="189000"/>
            <a:ext cx="87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单位长度为边长画一个正方形，以原点为圆心，正方形对角线为半径画弧，与正半轴的交点表示什么？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826920" y="3571920"/>
            <a:ext cx="727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20"/>
          <p:cNvGrpSpPr/>
          <p:nvPr/>
        </p:nvGrpSpPr>
        <p:grpSpPr>
          <a:xfrm>
            <a:off x="1332000" y="3427560"/>
            <a:ext cx="2376000" cy="144360"/>
            <a:chOff x="1332000" y="3427560"/>
            <a:chExt cx="2376000" cy="144360"/>
          </a:xfrm>
        </p:grpSpPr>
        <p:grpSp>
          <p:nvGrpSpPr>
            <p:cNvPr id="415" name="Group 21"/>
            <p:cNvGrpSpPr/>
            <p:nvPr/>
          </p:nvGrpSpPr>
          <p:grpSpPr>
            <a:xfrm>
              <a:off x="1332000" y="3427560"/>
              <a:ext cx="792000" cy="144360"/>
              <a:chOff x="1332000" y="3427560"/>
              <a:chExt cx="792000" cy="144360"/>
            </a:xfrm>
          </p:grpSpPr>
          <p:sp>
            <p:nvSpPr>
              <p:cNvPr id="416" name="Line 22"/>
              <p:cNvSpPr/>
              <p:nvPr/>
            </p:nvSpPr>
            <p:spPr>
              <a:xfrm>
                <a:off x="133200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Line 23"/>
              <p:cNvSpPr/>
              <p:nvPr/>
            </p:nvSpPr>
            <p:spPr>
              <a:xfrm>
                <a:off x="212400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4"/>
            <p:cNvGrpSpPr/>
            <p:nvPr/>
          </p:nvGrpSpPr>
          <p:grpSpPr>
            <a:xfrm>
              <a:off x="2916000" y="3427560"/>
              <a:ext cx="792000" cy="144360"/>
              <a:chOff x="2916000" y="3427560"/>
              <a:chExt cx="792000" cy="144360"/>
            </a:xfrm>
          </p:grpSpPr>
          <p:sp>
            <p:nvSpPr>
              <p:cNvPr id="419" name="Line 25"/>
              <p:cNvSpPr/>
              <p:nvPr/>
            </p:nvSpPr>
            <p:spPr>
              <a:xfrm>
                <a:off x="291600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26"/>
              <p:cNvSpPr/>
              <p:nvPr/>
            </p:nvSpPr>
            <p:spPr>
              <a:xfrm>
                <a:off x="370800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Group 27"/>
          <p:cNvGrpSpPr/>
          <p:nvPr/>
        </p:nvGrpSpPr>
        <p:grpSpPr>
          <a:xfrm>
            <a:off x="4500720" y="3427560"/>
            <a:ext cx="2376000" cy="144360"/>
            <a:chOff x="4500720" y="3427560"/>
            <a:chExt cx="2376000" cy="144360"/>
          </a:xfrm>
        </p:grpSpPr>
        <p:grpSp>
          <p:nvGrpSpPr>
            <p:cNvPr id="422" name="Group 28"/>
            <p:cNvGrpSpPr/>
            <p:nvPr/>
          </p:nvGrpSpPr>
          <p:grpSpPr>
            <a:xfrm>
              <a:off x="4500720" y="3427560"/>
              <a:ext cx="792000" cy="144360"/>
              <a:chOff x="4500720" y="3427560"/>
              <a:chExt cx="792000" cy="144360"/>
            </a:xfrm>
          </p:grpSpPr>
          <p:sp>
            <p:nvSpPr>
              <p:cNvPr id="423" name="Line 29"/>
              <p:cNvSpPr/>
              <p:nvPr/>
            </p:nvSpPr>
            <p:spPr>
              <a:xfrm>
                <a:off x="450072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Line 30"/>
              <p:cNvSpPr/>
              <p:nvPr/>
            </p:nvSpPr>
            <p:spPr>
              <a:xfrm>
                <a:off x="529272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31"/>
            <p:cNvGrpSpPr/>
            <p:nvPr/>
          </p:nvGrpSpPr>
          <p:grpSpPr>
            <a:xfrm>
              <a:off x="6084720" y="3427560"/>
              <a:ext cx="792000" cy="144360"/>
              <a:chOff x="6084720" y="3427560"/>
              <a:chExt cx="792000" cy="144360"/>
            </a:xfrm>
          </p:grpSpPr>
          <p:sp>
            <p:nvSpPr>
              <p:cNvPr id="426" name="Line 32"/>
              <p:cNvSpPr/>
              <p:nvPr/>
            </p:nvSpPr>
            <p:spPr>
              <a:xfrm>
                <a:off x="608472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33"/>
              <p:cNvSpPr/>
              <p:nvPr/>
            </p:nvSpPr>
            <p:spPr>
              <a:xfrm>
                <a:off x="6876720" y="3427560"/>
                <a:ext cx="0" cy="144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Text Box 34"/>
          <p:cNvSpPr/>
          <p:nvPr/>
        </p:nvSpPr>
        <p:spPr>
          <a:xfrm>
            <a:off x="909720" y="364500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35"/>
          <p:cNvSpPr/>
          <p:nvPr/>
        </p:nvSpPr>
        <p:spPr>
          <a:xfrm flipV="1">
            <a:off x="7597800" y="341100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4500720" y="1995120"/>
            <a:ext cx="1584000" cy="158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42"/>
              <p:cNvSpPr txBox="1"/>
              <p:nvPr/>
            </p:nvSpPr>
            <p:spPr>
              <a:xfrm>
                <a:off x="4716360" y="2284560"/>
                <a:ext cx="7923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Oval 43"/>
          <p:cNvSpPr/>
          <p:nvPr/>
        </p:nvSpPr>
        <p:spPr>
          <a:xfrm>
            <a:off x="6678720" y="347040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4"/>
              <p:cNvSpPr txBox="1"/>
              <p:nvPr/>
            </p:nvSpPr>
            <p:spPr>
              <a:xfrm>
                <a:off x="6804000" y="2536920"/>
                <a:ext cx="1008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4" name="Oval 45"/>
          <p:cNvSpPr/>
          <p:nvPr/>
        </p:nvSpPr>
        <p:spPr>
          <a:xfrm>
            <a:off x="2162160" y="34732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6"/>
              <p:cNvSpPr txBox="1"/>
              <p:nvPr/>
            </p:nvSpPr>
            <p:spPr>
              <a:xfrm>
                <a:off x="1258920" y="2643120"/>
                <a:ext cx="9223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6" name="Text Box 47"/>
          <p:cNvSpPr/>
          <p:nvPr/>
        </p:nvSpPr>
        <p:spPr>
          <a:xfrm>
            <a:off x="2110320" y="4462560"/>
            <a:ext cx="53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48"/>
              <p:cNvSpPr txBox="1"/>
              <p:nvPr/>
            </p:nvSpPr>
            <p:spPr>
              <a:xfrm>
                <a:off x="2535120" y="4429080"/>
                <a:ext cx="110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8"/>
          <p:cNvSpPr/>
          <p:nvPr/>
        </p:nvSpPr>
        <p:spPr>
          <a:xfrm>
            <a:off x="19728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归纳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3"/>
          <p:cNvSpPr/>
          <p:nvPr/>
        </p:nvSpPr>
        <p:spPr>
          <a:xfrm>
            <a:off x="684360" y="4668840"/>
            <a:ext cx="727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Group 14"/>
          <p:cNvGrpSpPr/>
          <p:nvPr/>
        </p:nvGrpSpPr>
        <p:grpSpPr>
          <a:xfrm>
            <a:off x="1189080" y="4524480"/>
            <a:ext cx="2376000" cy="144360"/>
            <a:chOff x="1189080" y="4524480"/>
            <a:chExt cx="2376000" cy="144360"/>
          </a:xfrm>
        </p:grpSpPr>
        <p:grpSp>
          <p:nvGrpSpPr>
            <p:cNvPr id="441" name="Group 15"/>
            <p:cNvGrpSpPr/>
            <p:nvPr/>
          </p:nvGrpSpPr>
          <p:grpSpPr>
            <a:xfrm>
              <a:off x="1189080" y="4524480"/>
              <a:ext cx="792000" cy="144360"/>
              <a:chOff x="1189080" y="4524480"/>
              <a:chExt cx="792000" cy="144360"/>
            </a:xfrm>
          </p:grpSpPr>
          <p:sp>
            <p:nvSpPr>
              <p:cNvPr id="442" name="Line 16"/>
              <p:cNvSpPr/>
              <p:nvPr/>
            </p:nvSpPr>
            <p:spPr>
              <a:xfrm>
                <a:off x="118908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98108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73080" y="4524480"/>
              <a:ext cx="792000" cy="144360"/>
              <a:chOff x="2773080" y="4524480"/>
              <a:chExt cx="792000" cy="144360"/>
            </a:xfrm>
          </p:grpSpPr>
          <p:sp>
            <p:nvSpPr>
              <p:cNvPr id="445" name="Line 19"/>
              <p:cNvSpPr/>
              <p:nvPr/>
            </p:nvSpPr>
            <p:spPr>
              <a:xfrm>
                <a:off x="277308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Line 20"/>
              <p:cNvSpPr/>
              <p:nvPr/>
            </p:nvSpPr>
            <p:spPr>
              <a:xfrm>
                <a:off x="356508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Group 21"/>
          <p:cNvGrpSpPr/>
          <p:nvPr/>
        </p:nvGrpSpPr>
        <p:grpSpPr>
          <a:xfrm>
            <a:off x="4357800" y="4524480"/>
            <a:ext cx="2376000" cy="144360"/>
            <a:chOff x="4357800" y="4524480"/>
            <a:chExt cx="2376000" cy="144360"/>
          </a:xfrm>
        </p:grpSpPr>
        <p:grpSp>
          <p:nvGrpSpPr>
            <p:cNvPr id="448" name="Group 22"/>
            <p:cNvGrpSpPr/>
            <p:nvPr/>
          </p:nvGrpSpPr>
          <p:grpSpPr>
            <a:xfrm>
              <a:off x="4357800" y="4524480"/>
              <a:ext cx="792000" cy="144360"/>
              <a:chOff x="4357800" y="4524480"/>
              <a:chExt cx="792000" cy="144360"/>
            </a:xfrm>
          </p:grpSpPr>
          <p:sp>
            <p:nvSpPr>
              <p:cNvPr id="449" name="Line 23"/>
              <p:cNvSpPr/>
              <p:nvPr/>
            </p:nvSpPr>
            <p:spPr>
              <a:xfrm>
                <a:off x="435780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514980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25"/>
            <p:cNvGrpSpPr/>
            <p:nvPr/>
          </p:nvGrpSpPr>
          <p:grpSpPr>
            <a:xfrm>
              <a:off x="5941800" y="4524480"/>
              <a:ext cx="792000" cy="144360"/>
              <a:chOff x="5941800" y="4524480"/>
              <a:chExt cx="792000" cy="144360"/>
            </a:xfrm>
          </p:grpSpPr>
          <p:sp>
            <p:nvSpPr>
              <p:cNvPr id="452" name="Line 26"/>
              <p:cNvSpPr/>
              <p:nvPr/>
            </p:nvSpPr>
            <p:spPr>
              <a:xfrm>
                <a:off x="594180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27"/>
              <p:cNvSpPr/>
              <p:nvPr/>
            </p:nvSpPr>
            <p:spPr>
              <a:xfrm>
                <a:off x="6733800" y="4524480"/>
                <a:ext cx="0" cy="1443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Text Box 28"/>
          <p:cNvSpPr/>
          <p:nvPr/>
        </p:nvSpPr>
        <p:spPr>
          <a:xfrm>
            <a:off x="971280" y="468936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29"/>
          <p:cNvSpPr/>
          <p:nvPr/>
        </p:nvSpPr>
        <p:spPr>
          <a:xfrm flipV="1">
            <a:off x="7454880" y="4508640"/>
            <a:ext cx="0" cy="1425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1890000" y="105264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一个有理数都可以用数轴上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31"/>
          <p:cNvSpPr/>
          <p:nvPr/>
        </p:nvSpPr>
        <p:spPr>
          <a:xfrm>
            <a:off x="1964520" y="234936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一个无理数都可以用数轴上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1861200" y="3716280"/>
            <a:ext cx="42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实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数轴上的点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一对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4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巩固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926000" y="1341360"/>
            <a:ext cx="445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命题错误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最小的正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没有最大的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绝对值最小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分数既是有理数又是实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648080" y="1020600"/>
            <a:ext cx="472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结论正确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小数是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都可以表示成分数形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都是带根号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都是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巩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判断下列说法是否正确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0920" y="692280"/>
            <a:ext cx="89661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数不是有理数就是无理数（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限小数都是无理数。     （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理数都是无限小数。    （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带根号的数都是无理数。  （      ）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个无理数之和一定是无理数。（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有的有理数都可以在数轴上表示，反过来，数轴上所有的点都表示有理数。（       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466" name=""/>
          <p:cNvGrpSpPr/>
          <p:nvPr/>
        </p:nvGrpSpPr>
        <p:grpSpPr>
          <a:xfrm>
            <a:off x="6445080" y="811080"/>
            <a:ext cx="647640" cy="457200"/>
            <a:chOff x="6445080" y="811080"/>
            <a:chExt cx="647640" cy="457200"/>
          </a:xfrm>
        </p:grpSpPr>
        <p:sp>
          <p:nvSpPr>
            <p:cNvPr id="467" name=""/>
            <p:cNvSpPr/>
            <p:nvPr/>
          </p:nvSpPr>
          <p:spPr>
            <a:xfrm>
              <a:off x="6445080" y="811080"/>
              <a:ext cx="64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16360" y="882360"/>
              <a:ext cx="730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589440" y="882360"/>
              <a:ext cx="358920" cy="2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589440" y="882360"/>
              <a:ext cx="2872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445080" y="1459080"/>
            <a:ext cx="792000" cy="457200"/>
            <a:chOff x="6445080" y="1459080"/>
            <a:chExt cx="792000" cy="457200"/>
          </a:xfrm>
        </p:grpSpPr>
        <p:sp>
          <p:nvSpPr>
            <p:cNvPr id="472" name=""/>
            <p:cNvSpPr/>
            <p:nvPr/>
          </p:nvSpPr>
          <p:spPr>
            <a:xfrm>
              <a:off x="6445080" y="145908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89440" y="153216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0" y="0"/>
                  </a:moveTo>
                  <a:lnTo>
                    <a:pt x="195" y="15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34160" y="1459080"/>
              <a:ext cx="61920" cy="409680"/>
            </a:xfrm>
            <a:custGeom>
              <a:avLst/>
              <a:gdLst/>
              <a:ahLst/>
              <a:rect l="l" t="t" r="r" b="b"/>
              <a:pathLst>
                <a:path w="39" h="258">
                  <a:moveTo>
                    <a:pt x="39" y="0"/>
                  </a:moveTo>
                  <a:lnTo>
                    <a:pt x="0" y="25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6589800" y="304308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516720" y="2971800"/>
            <a:ext cx="792000" cy="457200"/>
            <a:chOff x="6516720" y="2971800"/>
            <a:chExt cx="792000" cy="457200"/>
          </a:xfrm>
        </p:grpSpPr>
        <p:sp>
          <p:nvSpPr>
            <p:cNvPr id="477" name=""/>
            <p:cNvSpPr/>
            <p:nvPr/>
          </p:nvSpPr>
          <p:spPr>
            <a:xfrm>
              <a:off x="6516720" y="297180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61080" y="304488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0" y="0"/>
                  </a:moveTo>
                  <a:lnTo>
                    <a:pt x="195" y="15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05800" y="2971800"/>
              <a:ext cx="61920" cy="409680"/>
            </a:xfrm>
            <a:custGeom>
              <a:avLst/>
              <a:gdLst/>
              <a:ahLst/>
              <a:rect l="l" t="t" r="r" b="b"/>
              <a:pathLst>
                <a:path w="39" h="258">
                  <a:moveTo>
                    <a:pt x="39" y="0"/>
                  </a:moveTo>
                  <a:lnTo>
                    <a:pt x="0" y="25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443640" y="4987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875640" y="5084640"/>
            <a:ext cx="792000" cy="457200"/>
            <a:chOff x="6875640" y="5084640"/>
            <a:chExt cx="792000" cy="457200"/>
          </a:xfrm>
        </p:grpSpPr>
        <p:sp>
          <p:nvSpPr>
            <p:cNvPr id="482" name=""/>
            <p:cNvSpPr/>
            <p:nvPr/>
          </p:nvSpPr>
          <p:spPr>
            <a:xfrm>
              <a:off x="6875640" y="508464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20000" y="515772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0" y="0"/>
                  </a:moveTo>
                  <a:lnTo>
                    <a:pt x="195" y="15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64720" y="5084640"/>
              <a:ext cx="61920" cy="409680"/>
            </a:xfrm>
            <a:custGeom>
              <a:avLst/>
              <a:gdLst/>
              <a:ahLst/>
              <a:rect l="l" t="t" r="r" b="b"/>
              <a:pathLst>
                <a:path w="39" h="258">
                  <a:moveTo>
                    <a:pt x="39" y="0"/>
                  </a:moveTo>
                  <a:lnTo>
                    <a:pt x="0" y="25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7164360" y="3716280"/>
            <a:ext cx="792000" cy="457200"/>
            <a:chOff x="7164360" y="3716280"/>
            <a:chExt cx="792000" cy="457200"/>
          </a:xfrm>
        </p:grpSpPr>
        <p:sp>
          <p:nvSpPr>
            <p:cNvPr id="486" name=""/>
            <p:cNvSpPr/>
            <p:nvPr/>
          </p:nvSpPr>
          <p:spPr>
            <a:xfrm>
              <a:off x="7164360" y="3716280"/>
              <a:ext cx="792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308720" y="378936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0" y="0"/>
                  </a:moveTo>
                  <a:lnTo>
                    <a:pt x="195" y="15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53440" y="3716280"/>
              <a:ext cx="61920" cy="409680"/>
            </a:xfrm>
            <a:custGeom>
              <a:avLst/>
              <a:gdLst/>
              <a:ahLst/>
              <a:rect l="l" t="t" r="r" b="b"/>
              <a:pathLst>
                <a:path w="39" h="258">
                  <a:moveTo>
                    <a:pt x="39" y="0"/>
                  </a:moveTo>
                  <a:lnTo>
                    <a:pt x="0" y="25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516720" y="2251080"/>
            <a:ext cx="647640" cy="457200"/>
            <a:chOff x="6516720" y="2251080"/>
            <a:chExt cx="647640" cy="457200"/>
          </a:xfrm>
        </p:grpSpPr>
        <p:sp>
          <p:nvSpPr>
            <p:cNvPr id="490" name=""/>
            <p:cNvSpPr/>
            <p:nvPr/>
          </p:nvSpPr>
          <p:spPr>
            <a:xfrm>
              <a:off x="6516720" y="2251080"/>
              <a:ext cx="64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88000" y="2322360"/>
              <a:ext cx="730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661080" y="2322360"/>
              <a:ext cx="358920" cy="2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661080" y="2322360"/>
              <a:ext cx="2872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-36360" y="-2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250920" y="9079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250920" y="1773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322200" y="26370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与数轴上的点一一对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1258920" y="3860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6012000" y="3933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1227240" y="47973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限小数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6003000" y="5157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324000" y="333360"/>
            <a:ext cx="69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认识的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898560" y="1341360"/>
                <a:ext cx="315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835280" y="981000"/>
                <a:ext cx="70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5724360" y="1268280"/>
                <a:ext cx="10526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203640" y="981000"/>
                <a:ext cx="527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7451640" y="1268280"/>
                <a:ext cx="351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4427640" y="1268280"/>
                <a:ext cx="6332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5"/>
              <p:cNvSpPr txBox="1"/>
              <p:nvPr/>
            </p:nvSpPr>
            <p:spPr>
              <a:xfrm>
                <a:off x="755640" y="2709720"/>
                <a:ext cx="878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2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6"/>
              <p:cNvSpPr txBox="1"/>
              <p:nvPr/>
            </p:nvSpPr>
            <p:spPr>
              <a:xfrm>
                <a:off x="2340000" y="2781360"/>
                <a:ext cx="631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5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2" name="Text Box 31"/>
          <p:cNvSpPr/>
          <p:nvPr/>
        </p:nvSpPr>
        <p:spPr>
          <a:xfrm>
            <a:off x="324000" y="3860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数和分数统称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2637000"/>
            <a:ext cx="403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488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900000" y="515772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小数     无限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-36360" y="-2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近期遇到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39"/>
              <p:cNvSpPr txBox="1"/>
              <p:nvPr/>
            </p:nvSpPr>
            <p:spPr>
              <a:xfrm>
                <a:off x="755640" y="620640"/>
                <a:ext cx="1182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2"/>
              <p:cNvSpPr txBox="1"/>
              <p:nvPr/>
            </p:nvSpPr>
            <p:spPr>
              <a:xfrm>
                <a:off x="4788000" y="620640"/>
                <a:ext cx="1141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3"/>
              <p:cNvSpPr txBox="1"/>
              <p:nvPr/>
            </p:nvSpPr>
            <p:spPr>
              <a:xfrm>
                <a:off x="611280" y="1484280"/>
                <a:ext cx="1184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7"/>
              <p:cNvSpPr txBox="1"/>
              <p:nvPr/>
            </p:nvSpPr>
            <p:spPr>
              <a:xfrm>
                <a:off x="2013120" y="836640"/>
                <a:ext cx="1858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8"/>
              <p:cNvSpPr txBox="1"/>
              <p:nvPr/>
            </p:nvSpPr>
            <p:spPr>
              <a:xfrm>
                <a:off x="5973840" y="765000"/>
                <a:ext cx="185904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2</m:t>
                    </m:r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9"/>
              <p:cNvSpPr txBox="1"/>
              <p:nvPr/>
            </p:nvSpPr>
            <p:spPr>
              <a:xfrm>
                <a:off x="1955880" y="1665360"/>
                <a:ext cx="1893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4"/>
              <p:cNvSpPr txBox="1"/>
              <p:nvPr/>
            </p:nvSpPr>
            <p:spPr>
              <a:xfrm>
                <a:off x="4878360" y="1773360"/>
                <a:ext cx="8874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55"/>
              <p:cNvSpPr txBox="1"/>
              <p:nvPr/>
            </p:nvSpPr>
            <p:spPr>
              <a:xfrm>
                <a:off x="5692680" y="1773360"/>
                <a:ext cx="2911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159265</m:t>
                    </m:r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Text Box 56"/>
          <p:cNvSpPr/>
          <p:nvPr/>
        </p:nvSpPr>
        <p:spPr>
          <a:xfrm>
            <a:off x="755640" y="227664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不循环小数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566100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宋体"/>
              </a:rPr>
              <a:t>有理数和无理数统称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宋体"/>
              </a:rPr>
              <a:t>实数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  <a:ea typeface="宋体"/>
              </a:rPr>
              <a:t>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73200" y="2997360"/>
            <a:ext cx="5943600" cy="604800"/>
            <a:chOff x="673200" y="2997360"/>
            <a:chExt cx="5943600" cy="604800"/>
          </a:xfrm>
        </p:grpSpPr>
        <p:sp>
          <p:nvSpPr>
            <p:cNvPr id="258" name=""/>
            <p:cNvSpPr/>
            <p:nvPr/>
          </p:nvSpPr>
          <p:spPr>
            <a:xfrm>
              <a:off x="673200" y="2997360"/>
              <a:ext cx="59436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１．圆周率   及一些含有    的数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730600" y="2997360"/>
                  <a:ext cx="5288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169240" y="3073680"/>
                  <a:ext cx="52848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1" name=""/>
          <p:cNvSpPr/>
          <p:nvPr/>
        </p:nvSpPr>
        <p:spPr>
          <a:xfrm>
            <a:off x="684360" y="3645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２．开不尽方的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3200" y="43657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３．不循环的无限小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3672000"/>
            <a:ext cx="4038480" cy="2133360"/>
          </a:xfrm>
          <a:prstGeom prst="cloudCallout">
            <a:avLst>
              <a:gd name="adj1" fmla="val -71226"/>
              <a:gd name="adj2" fmla="val -46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注意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: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带根号的数不一定是无理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84"/>
          <p:cNvSpPr/>
          <p:nvPr/>
        </p:nvSpPr>
        <p:spPr>
          <a:xfrm>
            <a:off x="2916360" y="33336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244080" y="2651040"/>
            <a:ext cx="729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87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1165320" y="207504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1165320" y="380196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90"/>
          <p:cNvSpPr/>
          <p:nvPr/>
        </p:nvSpPr>
        <p:spPr>
          <a:xfrm>
            <a:off x="2611440" y="177804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91"/>
          <p:cNvSpPr/>
          <p:nvPr/>
        </p:nvSpPr>
        <p:spPr>
          <a:xfrm>
            <a:off x="2806560" y="149076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93"/>
          <p:cNvSpPr/>
          <p:nvPr/>
        </p:nvSpPr>
        <p:spPr>
          <a:xfrm>
            <a:off x="2806560" y="2786040"/>
            <a:ext cx="21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97"/>
          <p:cNvSpPr/>
          <p:nvPr/>
        </p:nvSpPr>
        <p:spPr>
          <a:xfrm>
            <a:off x="4991040" y="1773360"/>
            <a:ext cx="217440" cy="1439640"/>
          </a:xfrm>
          <a:custGeom>
            <a:avLst/>
            <a:gdLst>
              <a:gd name="textAreaLeft" fmla="*/ 0 w 217440"/>
              <a:gd name="textAreaRight" fmla="*/ 78480 w 217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98"/>
          <p:cNvSpPr/>
          <p:nvPr/>
        </p:nvSpPr>
        <p:spPr>
          <a:xfrm>
            <a:off x="5835240" y="1878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有限小数或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无限循环小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99"/>
          <p:cNvSpPr/>
          <p:nvPr/>
        </p:nvSpPr>
        <p:spPr>
          <a:xfrm>
            <a:off x="4932360" y="3645000"/>
            <a:ext cx="276120" cy="1079280"/>
          </a:xfrm>
          <a:custGeom>
            <a:avLst/>
            <a:gdLst>
              <a:gd name="textAreaLeft" fmla="*/ 0 w 276120"/>
              <a:gd name="textAreaRight" fmla="*/ 99720 w 2761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00"/>
          <p:cNvSpPr/>
          <p:nvPr/>
        </p:nvSpPr>
        <p:spPr>
          <a:xfrm>
            <a:off x="5855760" y="3932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无限不循环小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02"/>
          <p:cNvSpPr/>
          <p:nvPr/>
        </p:nvSpPr>
        <p:spPr>
          <a:xfrm>
            <a:off x="5735520" y="36684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定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916360" y="33336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44080" y="2651040"/>
            <a:ext cx="729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165320" y="207504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165320" y="3801960"/>
            <a:ext cx="26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2771640" y="1916280"/>
            <a:ext cx="216000" cy="1157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967120" y="170820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967120" y="2637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126036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2843280" y="3573360"/>
            <a:ext cx="268200" cy="12240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2987640" y="43657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3059280" y="33638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735520" y="36684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0"/>
          <p:cNvSpPr/>
          <p:nvPr/>
        </p:nvSpPr>
        <p:spPr>
          <a:xfrm>
            <a:off x="3594240" y="2602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各数中，哪些是有理数，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些是无理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51"/>
              <p:cNvSpPr txBox="1"/>
              <p:nvPr/>
            </p:nvSpPr>
            <p:spPr>
              <a:xfrm>
                <a:off x="755640" y="1805040"/>
                <a:ext cx="5493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2"/>
              <p:cNvSpPr txBox="1"/>
              <p:nvPr/>
            </p:nvSpPr>
            <p:spPr>
              <a:xfrm>
                <a:off x="2124000" y="1805040"/>
                <a:ext cx="76032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3"/>
              <p:cNvSpPr txBox="1"/>
              <p:nvPr/>
            </p:nvSpPr>
            <p:spPr>
              <a:xfrm>
                <a:off x="3564000" y="2092320"/>
                <a:ext cx="1182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54"/>
              <p:cNvSpPr txBox="1"/>
              <p:nvPr/>
            </p:nvSpPr>
            <p:spPr>
              <a:xfrm>
                <a:off x="5724360" y="2021040"/>
                <a:ext cx="8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55"/>
              <p:cNvSpPr txBox="1"/>
              <p:nvPr/>
            </p:nvSpPr>
            <p:spPr>
              <a:xfrm>
                <a:off x="7451640" y="2092320"/>
                <a:ext cx="1015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3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56"/>
              <p:cNvSpPr txBox="1"/>
              <p:nvPr/>
            </p:nvSpPr>
            <p:spPr>
              <a:xfrm>
                <a:off x="473040" y="3564000"/>
                <a:ext cx="1438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57"/>
              <p:cNvSpPr txBox="1"/>
              <p:nvPr/>
            </p:nvSpPr>
            <p:spPr>
              <a:xfrm>
                <a:off x="2766960" y="3605040"/>
                <a:ext cx="10159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8"/>
              <p:cNvSpPr txBox="1"/>
              <p:nvPr/>
            </p:nvSpPr>
            <p:spPr>
              <a:xfrm>
                <a:off x="4554360" y="3171960"/>
                <a:ext cx="14828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59"/>
              <p:cNvSpPr txBox="1"/>
              <p:nvPr/>
            </p:nvSpPr>
            <p:spPr>
              <a:xfrm>
                <a:off x="6927840" y="3405240"/>
                <a:ext cx="1525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60"/>
              <p:cNvSpPr txBox="1"/>
              <p:nvPr/>
            </p:nvSpPr>
            <p:spPr>
              <a:xfrm>
                <a:off x="539640" y="4998960"/>
                <a:ext cx="37641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1331333</m:t>
                    </m:r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61"/>
              <p:cNvSpPr txBox="1"/>
              <p:nvPr/>
            </p:nvSpPr>
            <p:spPr>
              <a:xfrm>
                <a:off x="5076720" y="4927680"/>
                <a:ext cx="763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2"/>
              <p:cNvSpPr txBox="1"/>
              <p:nvPr/>
            </p:nvSpPr>
            <p:spPr>
              <a:xfrm>
                <a:off x="6902280" y="4984920"/>
                <a:ext cx="424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24000" y="1773360"/>
            <a:ext cx="1295280" cy="143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1700280"/>
            <a:ext cx="1295280" cy="143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80000" y="1700280"/>
            <a:ext cx="1295640" cy="143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213000"/>
            <a:ext cx="129528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4508640"/>
            <a:ext cx="1295280" cy="143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4653000"/>
            <a:ext cx="129528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-774360" y="947880"/>
            <a:ext cx="1084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各数    ，     ，           ，        ，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  中，有理数的个数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    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     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7"/>
              <p:cNvSpPr txBox="1"/>
              <p:nvPr/>
            </p:nvSpPr>
            <p:spPr>
              <a:xfrm>
                <a:off x="3276720" y="1109520"/>
                <a:ext cx="463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8"/>
              <p:cNvSpPr txBox="1"/>
              <p:nvPr/>
            </p:nvSpPr>
            <p:spPr>
              <a:xfrm>
                <a:off x="3995640" y="765000"/>
                <a:ext cx="8413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9"/>
              <p:cNvSpPr txBox="1"/>
              <p:nvPr/>
            </p:nvSpPr>
            <p:spPr>
              <a:xfrm>
                <a:off x="5076720" y="836640"/>
                <a:ext cx="1643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0"/>
              <p:cNvSpPr txBox="1"/>
              <p:nvPr/>
            </p:nvSpPr>
            <p:spPr>
              <a:xfrm>
                <a:off x="7120080" y="1004760"/>
                <a:ext cx="10094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41"/>
              <p:cNvSpPr txBox="1"/>
              <p:nvPr/>
            </p:nvSpPr>
            <p:spPr>
              <a:xfrm>
                <a:off x="971640" y="2133720"/>
                <a:ext cx="799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2"/>
              <p:cNvSpPr txBox="1"/>
              <p:nvPr/>
            </p:nvSpPr>
            <p:spPr>
              <a:xfrm>
                <a:off x="2195640" y="2205000"/>
                <a:ext cx="42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-3149280" y="947880"/>
            <a:ext cx="1572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    ，                                    ，      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     ，        中，无理数分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7"/>
              <p:cNvSpPr txBox="1"/>
              <p:nvPr/>
            </p:nvSpPr>
            <p:spPr>
              <a:xfrm>
                <a:off x="2427120" y="2133720"/>
                <a:ext cx="1054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8"/>
              <p:cNvSpPr txBox="1"/>
              <p:nvPr/>
            </p:nvSpPr>
            <p:spPr>
              <a:xfrm>
                <a:off x="7667640" y="907920"/>
                <a:ext cx="7588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9"/>
              <p:cNvSpPr txBox="1"/>
              <p:nvPr/>
            </p:nvSpPr>
            <p:spPr>
              <a:xfrm>
                <a:off x="1346040" y="2133720"/>
                <a:ext cx="7574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0"/>
              <p:cNvSpPr txBox="1"/>
              <p:nvPr/>
            </p:nvSpPr>
            <p:spPr>
              <a:xfrm>
                <a:off x="2484360" y="1033560"/>
                <a:ext cx="4753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100010000</m:t>
                    </m:r>
                    <m:r>
                      <m:t xml:space="preserve">⋯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1"/>
              <p:cNvSpPr txBox="1"/>
              <p:nvPr/>
            </p:nvSpPr>
            <p:spPr>
              <a:xfrm>
                <a:off x="1763640" y="1052640"/>
                <a:ext cx="422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2"/>
              <p:cNvSpPr txBox="1"/>
              <p:nvPr/>
            </p:nvSpPr>
            <p:spPr>
              <a:xfrm>
                <a:off x="3794040" y="2098800"/>
                <a:ext cx="1138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把下列各数分别填在相应的集合中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8"/>
              <p:cNvSpPr txBox="1"/>
              <p:nvPr/>
            </p:nvSpPr>
            <p:spPr>
              <a:xfrm>
                <a:off x="395280" y="1989000"/>
                <a:ext cx="843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9"/>
              <p:cNvSpPr txBox="1"/>
              <p:nvPr/>
            </p:nvSpPr>
            <p:spPr>
              <a:xfrm>
                <a:off x="1692360" y="1916280"/>
                <a:ext cx="2655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159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0"/>
              <p:cNvSpPr txBox="1"/>
              <p:nvPr/>
            </p:nvSpPr>
            <p:spPr>
              <a:xfrm>
                <a:off x="4788000" y="1844640"/>
                <a:ext cx="11379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402240" y="1928880"/>
                <a:ext cx="1222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2"/>
              <p:cNvSpPr txBox="1"/>
              <p:nvPr/>
            </p:nvSpPr>
            <p:spPr>
              <a:xfrm>
                <a:off x="395280" y="3216240"/>
                <a:ext cx="757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3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3"/>
              <p:cNvSpPr txBox="1"/>
              <p:nvPr/>
            </p:nvSpPr>
            <p:spPr>
              <a:xfrm>
                <a:off x="1503360" y="2816280"/>
                <a:ext cx="113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4"/>
              <p:cNvSpPr txBox="1"/>
              <p:nvPr/>
            </p:nvSpPr>
            <p:spPr>
              <a:xfrm>
                <a:off x="3516480" y="3211560"/>
                <a:ext cx="799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5"/>
              <p:cNvSpPr txBox="1"/>
              <p:nvPr/>
            </p:nvSpPr>
            <p:spPr>
              <a:xfrm>
                <a:off x="4946760" y="3213000"/>
                <a:ext cx="13478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6" name="Oval 26"/>
          <p:cNvSpPr/>
          <p:nvPr/>
        </p:nvSpPr>
        <p:spPr>
          <a:xfrm>
            <a:off x="755640" y="4292640"/>
            <a:ext cx="3097080" cy="1368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1777320" y="5805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集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Oval 28"/>
          <p:cNvSpPr/>
          <p:nvPr/>
        </p:nvSpPr>
        <p:spPr>
          <a:xfrm>
            <a:off x="4932360" y="4292640"/>
            <a:ext cx="3097080" cy="1368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5954040" y="5805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集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262908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6805800" y="530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4:14:16Z</dcterms:created>
  <dc:creator/>
  <dc:description/>
  <dc:language>en-US</dc:language>
  <cp:lastModifiedBy>微软用户</cp:lastModifiedBy>
  <dcterms:modified xsi:type="dcterms:W3CDTF">2014-09-18T07:29:50Z</dcterms:modified>
  <cp:revision>37</cp:revision>
  <dc:subject/>
  <dc:title>幻灯片 1</dc:title>
</cp:coreProperties>
</file>